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265E-9CAF-45EC-8C54-CEB57787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040-1E78-45B6-AFE8-3575E0D8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971-F3FE-4459-9CB4-397C793F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F2B-FE7C-437B-ACB0-C5F0CE5B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FA1-353A-4AF9-A595-12FCCA8D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4AF-7D87-430E-83AC-7321FFC8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126-22B5-4EAD-99D6-A2396678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586-6F9A-44B4-B13B-15EC5646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AA2-0C93-4352-891A-C0E4F2CC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A38-10A0-477A-8A92-0985450C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00A-BC62-41E3-8999-1EF125B0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3E2-6050-4639-A560-9B099289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F126-D6E6-46E4-923D-A34D3FD7F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09480"/>
            <a:ext cx="5105520" cy="382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nit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view She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228600"/>
            <a:ext cx="449604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Fuel bu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Primary pollu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Emphysema, lung cancer, heart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sb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Increase risk of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Ra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Sick building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Noise 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sb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Sulfuric &amp; nitric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228600"/>
            <a:ext cx="449604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12. Nitrous &amp; sulfu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Less tha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Burning of fossil fu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Midwest &amp; easter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cid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Below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bo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ci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lumi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Chloroflurocarb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UV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228600"/>
            <a:ext cx="4496040" cy="65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Ozone la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Montreal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Amphibi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Oz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Chlorofluorocarb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Greenhouse g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Melt/decre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Greenhouse eff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Global wa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Greenhouse g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Kyoto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Carbon diox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4:00:17Z</dcterms:created>
  <dc:creator>HASD</dc:creator>
  <dc:description/>
  <dc:language>en-US</dc:language>
  <cp:lastModifiedBy>HASD</cp:lastModifiedBy>
  <dcterms:modified xsi:type="dcterms:W3CDTF">2007-12-20T18:46:04Z</dcterms:modified>
  <cp:revision>2</cp:revision>
  <dc:subject/>
  <dc:title>PowerPoint Presentation</dc:title>
</cp:coreProperties>
</file>